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937F-930C-415F-87C3-600F385AE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49C4-0D96-4613-8ACD-DFB162DAA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490-0895-4A09-9291-221F10BC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6D0-C107-41E1-9716-07BA98BE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314-7BAB-4FEF-B02C-3390E1B3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777-75CF-4A1C-BD7F-818AF06F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C5F-1179-4A89-B117-7D932894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585-3FB5-4F05-A113-E00CA295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06B-BDB3-4CFB-9A04-70095FB4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9CE-F830-4177-9235-4ADB73DF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647-A67C-44AD-9371-5C7C90AA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9CB-B6FB-46AB-9CA5-13BB58CE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524-D3C1-4065-941C-366CFC2A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91B-43C4-4510-B85D-47C12CF7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6818-8180-42E8-B20E-D24ACC805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ania Elsanho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ania Elsanho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ania Elsanho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ania Elsanhou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ania Elsanhou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Rania. Yo vivo en New York .Tengo 14 años. Yo tengo una hermana y dos hermanos.  Yo soy muy calmada. Yo y mis amigos tenemos pad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008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¡Super! ¿Monica la maravillosa y Christy la lo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ueden ir a comer helado?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¡Buenos dias! ¡Yo quiero ir a comer helado!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Nos vem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ablamos luego. Adios &lt;3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a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En serio quién quiere ir a comer helado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¡Hola mi lindas amigas! Yo puedo ir pero ella no puede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www ¿por qué? ¿cuándo y dónde tú quieres verme?                                      R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ñana en la mancha en mi casa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Ciao nosotros nos vemos ahí        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209680" y="1905120"/>
            <a:ext cx="373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Hola bonitas! Yo tengo hambre. ¿Quién quiere ir a comer helado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73640" y="640080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9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1295280" cy="156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9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"/>
          <p:cNvPicPr/>
          <p:nvPr/>
        </p:nvPicPr>
        <p:blipFill>
          <a:blip r:embed="rId3"/>
          <a:stretch/>
        </p:blipFill>
        <p:spPr>
          <a:xfrm>
            <a:off x="2209680" y="380988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4"/>
          <a:stretch/>
        </p:blipFill>
        <p:spPr>
          <a:xfrm>
            <a:off x="2133720" y="518148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"/>
          <a:stretch/>
        </p:blipFill>
        <p:spPr>
          <a:xfrm>
            <a:off x="2082960" y="3200400"/>
            <a:ext cx="660240" cy="49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6"/>
          <a:stretch/>
        </p:blipFill>
        <p:spPr>
          <a:xfrm>
            <a:off x="2057400" y="4495680"/>
            <a:ext cx="62064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1" descr=""/>
          <p:cNvPicPr/>
          <p:nvPr/>
        </p:nvPicPr>
        <p:blipFill>
          <a:blip r:embed="rId7"/>
          <a:stretch/>
        </p:blipFill>
        <p:spPr>
          <a:xfrm>
            <a:off x="2057400" y="5943600"/>
            <a:ext cx="62064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1" descr=""/>
          <p:cNvPicPr/>
          <p:nvPr/>
        </p:nvPicPr>
        <p:blipFill>
          <a:blip r:embed="rId8"/>
          <a:stretch/>
        </p:blipFill>
        <p:spPr>
          <a:xfrm>
            <a:off x="152280" y="5257800"/>
            <a:ext cx="533520" cy="458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0" descr=""/>
          <p:cNvPicPr/>
          <p:nvPr/>
        </p:nvPicPr>
        <p:blipFill>
          <a:blip r:embed="rId9"/>
          <a:stretch/>
        </p:blipFill>
        <p:spPr>
          <a:xfrm>
            <a:off x="762120" y="52578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2" descr=""/>
          <p:cNvPicPr/>
          <p:nvPr/>
        </p:nvPicPr>
        <p:blipFill>
          <a:blip r:embed="rId10"/>
          <a:stretch/>
        </p:blipFill>
        <p:spPr>
          <a:xfrm>
            <a:off x="1447920" y="5257800"/>
            <a:ext cx="533160" cy="442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3" descr=""/>
          <p:cNvPicPr/>
          <p:nvPr/>
        </p:nvPicPr>
        <p:blipFill>
          <a:blip r:embed="rId11"/>
          <a:stretch/>
        </p:blipFill>
        <p:spPr>
          <a:xfrm>
            <a:off x="152280" y="5943600"/>
            <a:ext cx="457200" cy="41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4" descr=""/>
          <p:cNvPicPr/>
          <p:nvPr/>
        </p:nvPicPr>
        <p:blipFill>
          <a:blip r:embed="rId12"/>
          <a:stretch/>
        </p:blipFill>
        <p:spPr>
          <a:xfrm>
            <a:off x="762120" y="59436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5:05Z</dcterms:created>
  <dc:creator>FriscoISD</dc:creator>
  <dc:description/>
  <dc:language>en-US</dc:language>
  <cp:lastModifiedBy>User</cp:lastModifiedBy>
  <dcterms:modified xsi:type="dcterms:W3CDTF">2013-01-02T14:08:21Z</dcterms:modified>
  <cp:revision>108</cp:revision>
  <dc:subject/>
  <dc:title>Profile</dc:title>
</cp:coreProperties>
</file>